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8671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5840" y="8842320"/>
            <a:ext cx="2971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D3B4-C14E-4695-AFB0-3648A0FEAA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4810680"/>
            <a:ext cx="297180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Question of’ …Nine Number Picture Boar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nine number picture board is adapted from  a template available from   www.sln.org.uk/geograph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a number to link to an im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image to link to an information p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yellow squar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to link back to the im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red square     to link back to the picture board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ce selected, numbers will change colou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estion of’ …Nine Number Picture Bo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nine number picture board is adapted from  a template available from   www.sln.org.uk/ge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a number to link to an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image to link to an information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yellow squ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link back to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red square     to link back to the picture bo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selected, numbers will change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produced from the OS Get-a-Map service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the physical features of the river and its valle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produced from the OS Get-a-Map servi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physical features of the river and its 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129160"/>
            <a:ext cx="2971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and explain the differences between the sides of the rive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explain the differences between the sides of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ircular depressions are little pot hol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mall stones are swirled around in them when the river is flowing higher and faster than it is at presen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ot holes are eroded by the abrasive action of the swirling ston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ircular depressions are little pot h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tones are swirled around in them when the river is flowing higher and faster than it is at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 holes are eroded by the abrasive action of the swirling st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6478200"/>
            <a:ext cx="29718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hoto shows the River Tay which at 117 miles is Scotland’s longest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 rises  only 25 miles from the west coast but flows east to its mouth on the North Sea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though many English rivers e.g. the Severn and theThames are longer than the Tay, the Tay carries a greater volume of water than any other British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undee is located on its estuary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 shows the River Tay which at 117 miles is Scotland’s longest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ises  only 25 miles from the west coast but flows east to its mouth on the North S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many English rivers e.g. the Severn and theThames are longer than the Tay, the Tay carries a greater volume of water than any other British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dee is located on its estu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6922080"/>
            <a:ext cx="29718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x bow lak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mit of tidal influen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channel more than 8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and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oad, flat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tle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mbankments/leve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 bow 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 of tidal infl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channel more than 8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, flat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le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ankments/lev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7121160"/>
            <a:ext cx="297180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feature is a confluence.  It occurs where a tributary joins the main stream or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wnstream of a confluence , the river increases in width. The discharge of a river (the volume of water it is carrying) also increases significantly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eature is a confluence.  It occurs where a tributary joins the main stream or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stream of a confluence , the river increases in width. The discharge of a river (the volume of water it is carrying) also increases significant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7477920"/>
            <a:ext cx="297180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terlocking spu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valley sid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bsence of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rge bedloa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locking sp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valley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bed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7208280"/>
            <a:ext cx="297180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band of hard rock interrupts the river’s cour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 overhang develops where the softer rock below is eroded.  In time this will collapse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latively softer rock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lunge poo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nd of hard rock interrupts the river’s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verhang develops where the softer rock below is eroded.  In time this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ly softer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ng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6017760"/>
            <a:ext cx="2971800" cy="31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valley is a U-shaped valley in the Scottish Highlands.  It was eroded by ice during the Ice Age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 is much too large and deep to have been carved by the small river which now flows in i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river is called a ‘misfit’ as it is not in keeping with the scale of its valley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though the river is in a highland valley, it displays features of a valley in its lower course (meanders).  This is because the valley floor is so fla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ley is a U-shaped valley in the Scottish Highlands.  It was eroded by ice during the Ic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uch too large and deep to have been carved by the small river which now flows i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ver is called a ‘misfit’ as it is not in keeping with the scale of its vall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river is in a highland valley, it displays features of a valley in its lower course (meanders).  This is because the valley floor is so fl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7017480"/>
            <a:ext cx="2971800" cy="21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valley sid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ny small tributari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channel less than 8m wid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follows a relatively straight cour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valley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small tribut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channel less than 8m 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follows a relatively straight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6088320"/>
            <a:ext cx="29718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Question of Riv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6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estion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6938640"/>
            <a:ext cx="297180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 inside of the meander water is flowing more slowly. This results in deposition and the formation of the slip-off slope or river beach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 outside of the meander water is flower more quickly. This results in erosion and the formation of a cut bank or river cliff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side of the meander water is flowing more slowly. This results in deposition and the formation of the slip-off slope or river b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utside of the meander water is flower more quickly. This results in erosion and the formation of a cut bank or river cli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were the little circular depressions in the bedrock of this river formed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re the little circular depressions in the bedrock of this river form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7581600"/>
            <a:ext cx="2971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is Scotland’s longest river. Which river is it? Into which body of water does it flow?  Scotland’s fourth largest city is located on its estuary?  Which city is it?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cotland’s longest river. Which river is it? Into which body of water does it flow?  Scotland’s fourth largest city is located on its estuary?  Which city is it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produced from the OS Get-a-Map service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the physical features of the river and its valle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produced from the OS Get-a-Map servi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physical features of the river and its 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river feature occupies the centre of this photo? How does the river change downstream of the featur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iver feature occupies the centre of this photo? How does the river change downstream of the fe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129160"/>
            <a:ext cx="2971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features identify  this stretch of river as part of its upper cours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eatures identify  this stretch of river as part of its upper cou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311680"/>
            <a:ext cx="2971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has a waterfall developed her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a waterfall developed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would you know that this valley was not carved by the river which flows in it today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know that this valley was not carved by the river which flows in it to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9CB-0C6C-48C1-BC4D-94FE0D34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8722-F47D-4662-8951-9152240D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3877-83A7-4486-90BA-4283D2A0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29F-2EFB-42D2-9917-4168CF43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B763-5E7E-468C-BB33-4A171A24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E57E-7896-4680-BD6B-B2ABD451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52ED-C0B1-4117-98AD-A13BC881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0EE9-BFD8-44AC-A4D4-BFBFA805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8040-79FD-4A6C-B68C-952E36EE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A90D-E49C-41CD-B873-A66A030C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65B0-283D-4D64-A098-7AA49EFC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5E7-FF14-45C7-B484-ED9A71BC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A285-6ADF-4FA3-ADCE-D09F44BC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3409-24ED-4B4E-82AF-C9656A8A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D345-27DE-40DD-99DF-3F1AA0AB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D83E-D051-4364-AFEC-33587FE1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7886-26A9-477F-8070-98EF9598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517-96E2-4F2F-91E6-B5D1546F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C24B-A04D-4D8F-8916-D8FB52FC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FD2A-8DE0-42FB-8E29-D27771BB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F769-009A-4A71-9642-B4FAE2B2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F0B-9990-40C5-8C08-71895969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EEE-901A-4508-BDD3-043B7447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F5D6-E578-43CD-B202-2606CE49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FC27-F370-4B86-A69D-FA544CF8B8F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F8EB-3C5D-43D9-B634-CDD415E8D7F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ln.org.uk/geography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9.xm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20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1.png"/><Relationship Id="rId5" Type="http://schemas.openxmlformats.org/officeDocument/2006/relationships/slide" Target="slide14.xm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2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3.xml"/><Relationship Id="rId4" Type="http://schemas.openxmlformats.org/officeDocument/2006/relationships/image" Target="../media/image4.jpeg"/><Relationship Id="rId5" Type="http://schemas.openxmlformats.org/officeDocument/2006/relationships/slide" Target="slide13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4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6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7.xm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8.xm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9640" y="549360"/>
            <a:ext cx="835344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‘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A Question of’ …Nine Number Picture Boa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nine number picture board is adapted from  a template available from   </a:t>
            </a:r>
            <a:r>
              <a:rPr b="0" lang="en-GB" sz="24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www.sln.org.uk/geograp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a number to link to an im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image to link to an information p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yellow squ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to link back to the im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red square     to link back to the picture boar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nce selected, numbers will change colo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3995640" y="436392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bd10264_"/>
          <p:cNvPicPr/>
          <p:nvPr/>
        </p:nvPicPr>
        <p:blipFill>
          <a:blip r:embed="rId3"/>
          <a:stretch/>
        </p:blipFill>
        <p:spPr>
          <a:xfrm>
            <a:off x="3564000" y="482616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6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2" descr="Upper cours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92360" y="189000"/>
            <a:ext cx="7056360" cy="5138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9" name="Text Box 24"/>
          <p:cNvSpPr/>
          <p:nvPr/>
        </p:nvSpPr>
        <p:spPr>
          <a:xfrm>
            <a:off x="179280" y="3716280"/>
            <a:ext cx="136836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produced from the OS Get-a-Map service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reproduced with kind permission of the OS and OS of Northern Ireland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268360" y="5589720"/>
            <a:ext cx="56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scribe the physical features of the river and its vall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304920" y="30492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0" descr="Img0978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189000"/>
            <a:ext cx="6770880" cy="5078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34" name="Text Box 21"/>
          <p:cNvSpPr/>
          <p:nvPr/>
        </p:nvSpPr>
        <p:spPr>
          <a:xfrm>
            <a:off x="1476360" y="5516640"/>
            <a:ext cx="676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1476360" y="551664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escribe and explain the differences between the sides of the riv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6165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1042920" y="765000"/>
            <a:ext cx="7129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circular depressions are littl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pot hol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mall stones are swirled around in them when the river is flowing higher and faster than it is at pres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pot holes are eroded by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abrasive actio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the swirling ston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8"/>
          <p:cNvSpPr/>
          <p:nvPr/>
        </p:nvSpPr>
        <p:spPr>
          <a:xfrm>
            <a:off x="826920" y="620640"/>
            <a:ext cx="74901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photo shows the River Tay which at 117 miles is Scotland’s longest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rises  only 25 miles from the west coast but flows east to its mouth on the North Se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though many English rivers e.g. the Severn and theThames are longer than the Tay, the Tay carries a greater volume of water than any other British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undee is located on its estuar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539640" y="33336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Lower cours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981000"/>
            <a:ext cx="8352000" cy="440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7" name="Text Box 11"/>
          <p:cNvSpPr/>
          <p:nvPr/>
        </p:nvSpPr>
        <p:spPr>
          <a:xfrm>
            <a:off x="4643280" y="10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ox bow lak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6012000" y="2637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limit of tidal influ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5003640" y="350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channel more than 8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385128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meand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611280" y="1989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broad, flat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1116000" y="2565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gentle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5724360" y="4221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embankments/leve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Line 18"/>
          <p:cNvSpPr/>
          <p:nvPr/>
        </p:nvSpPr>
        <p:spPr>
          <a:xfrm flipV="1">
            <a:off x="7524720" y="3499920"/>
            <a:ext cx="792360" cy="792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8"/>
          <p:cNvSpPr/>
          <p:nvPr/>
        </p:nvSpPr>
        <p:spPr>
          <a:xfrm>
            <a:off x="755640" y="1052640"/>
            <a:ext cx="7201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feature is a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confluence.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It occurs where a tributary joins the main stream or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ownstream of a confluence , the river increases in width. The discharge of a river (the volume of water it is carrying) also increases significantl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bd10264_"/>
          <p:cNvPicPr/>
          <p:nvPr/>
        </p:nvPicPr>
        <p:blipFill>
          <a:blip r:embed="rId1"/>
          <a:stretch/>
        </p:blipFill>
        <p:spPr>
          <a:xfrm>
            <a:off x="250920" y="6165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2"/>
          <p:cNvSpPr/>
          <p:nvPr/>
        </p:nvSpPr>
        <p:spPr>
          <a:xfrm>
            <a:off x="6227640" y="1268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terlocking spu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6012000" y="2565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eep valley sid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16" descr="resized"/>
          <p:cNvPicPr/>
          <p:nvPr/>
        </p:nvPicPr>
        <p:blipFill>
          <a:blip r:embed="rId3"/>
          <a:stretch/>
        </p:blipFill>
        <p:spPr>
          <a:xfrm>
            <a:off x="826920" y="333360"/>
            <a:ext cx="4314960" cy="5759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63" name="Line 15"/>
          <p:cNvSpPr/>
          <p:nvPr/>
        </p:nvSpPr>
        <p:spPr>
          <a:xfrm flipH="1">
            <a:off x="4643280" y="2781360"/>
            <a:ext cx="1224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Line 13"/>
          <p:cNvSpPr/>
          <p:nvPr/>
        </p:nvSpPr>
        <p:spPr>
          <a:xfrm flipH="1">
            <a:off x="2987280" y="1413000"/>
            <a:ext cx="30970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17"/>
          <p:cNvSpPr/>
          <p:nvPr/>
        </p:nvSpPr>
        <p:spPr>
          <a:xfrm>
            <a:off x="5796000" y="4292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bsence of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3995280" y="4508640"/>
            <a:ext cx="180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Line 20"/>
          <p:cNvSpPr/>
          <p:nvPr/>
        </p:nvSpPr>
        <p:spPr>
          <a:xfrm flipH="1">
            <a:off x="3132000" y="3716280"/>
            <a:ext cx="2664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6156360" y="35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eep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6012000" y="5300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arge bedlo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Line 23"/>
          <p:cNvSpPr/>
          <p:nvPr/>
        </p:nvSpPr>
        <p:spPr>
          <a:xfrm flipH="1">
            <a:off x="2484360" y="5445000"/>
            <a:ext cx="3240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Thornton Force Panorama copy"/>
          <p:cNvPicPr/>
          <p:nvPr/>
        </p:nvPicPr>
        <p:blipFill>
          <a:blip r:embed="rId3"/>
          <a:stretch/>
        </p:blipFill>
        <p:spPr>
          <a:xfrm>
            <a:off x="1042920" y="692280"/>
            <a:ext cx="7634520" cy="3695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74" name="Line 10"/>
          <p:cNvSpPr/>
          <p:nvPr/>
        </p:nvSpPr>
        <p:spPr>
          <a:xfrm flipV="1">
            <a:off x="1403280" y="2133360"/>
            <a:ext cx="0" cy="2879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Line 11"/>
          <p:cNvSpPr/>
          <p:nvPr/>
        </p:nvSpPr>
        <p:spPr>
          <a:xfrm flipV="1">
            <a:off x="3419640" y="2708280"/>
            <a:ext cx="0" cy="22334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12"/>
          <p:cNvSpPr/>
          <p:nvPr/>
        </p:nvSpPr>
        <p:spPr>
          <a:xfrm flipV="1">
            <a:off x="6156360" y="3284280"/>
            <a:ext cx="0" cy="1657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Line 14"/>
          <p:cNvSpPr/>
          <p:nvPr/>
        </p:nvSpPr>
        <p:spPr>
          <a:xfrm flipV="1">
            <a:off x="7740720" y="4005360"/>
            <a:ext cx="0" cy="1008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826920" y="515772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band of hard rock interrupts the river’s cour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2700360" y="494172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n overhang develops where the softer rock below is eroded.  In time this will collaps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5292720" y="5013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latively softer roc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7236000" y="515772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lunge p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8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1"/>
          <p:cNvSpPr/>
          <p:nvPr/>
        </p:nvSpPr>
        <p:spPr>
          <a:xfrm>
            <a:off x="539640" y="765000"/>
            <a:ext cx="84250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valley is a U-shaped valley in the Scottish Highlands.  It was eroded by ice during the Ice Ag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is much too large and deep to have been carved by the small river which now flows in i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river is called a ‘misfit’ as it is not in keeping with the scale of its valle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though the river is in a highland valley, it displays features of a valley in its lower course (meanders).  This is because the valley floor is so fla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6" descr="bd10264_"/>
          <p:cNvPicPr/>
          <p:nvPr/>
        </p:nvPicPr>
        <p:blipFill>
          <a:blip r:embed="rId1"/>
          <a:stretch/>
        </p:blipFill>
        <p:spPr>
          <a:xfrm>
            <a:off x="179280" y="630864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8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9" descr="Upper course"/>
          <p:cNvPicPr/>
          <p:nvPr/>
        </p:nvPicPr>
        <p:blipFill>
          <a:blip r:embed="rId3"/>
          <a:stretch/>
        </p:blipFill>
        <p:spPr>
          <a:xfrm>
            <a:off x="755640" y="333360"/>
            <a:ext cx="7056360" cy="5138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88" name="Oval 20"/>
          <p:cNvSpPr/>
          <p:nvPr/>
        </p:nvSpPr>
        <p:spPr>
          <a:xfrm>
            <a:off x="2843280" y="692280"/>
            <a:ext cx="1081080" cy="576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4211640" y="148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steep valley sid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900000" y="1557360"/>
            <a:ext cx="31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many small tributa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2406600" y="20653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no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5148360" y="2276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channel less than 8m wi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2916360" y="292428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steep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3276720" y="3645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follows a relatively straight cour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4"/>
          <p:cNvSpPr/>
          <p:nvPr/>
        </p:nvSpPr>
        <p:spPr>
          <a:xfrm>
            <a:off x="1600200" y="1414440"/>
            <a:ext cx="1644480" cy="1508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3581280" y="1414440"/>
            <a:ext cx="1644840" cy="15080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26"/>
          <p:cNvSpPr/>
          <p:nvPr/>
        </p:nvSpPr>
        <p:spPr>
          <a:xfrm>
            <a:off x="5562720" y="1414440"/>
            <a:ext cx="1644480" cy="15080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1600200" y="3243240"/>
            <a:ext cx="1644480" cy="150804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3581280" y="3243240"/>
            <a:ext cx="1644840" cy="15080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5562720" y="3243240"/>
            <a:ext cx="1644480" cy="150804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30"/>
          <p:cNvSpPr/>
          <p:nvPr/>
        </p:nvSpPr>
        <p:spPr>
          <a:xfrm>
            <a:off x="1600200" y="5072040"/>
            <a:ext cx="1644480" cy="150804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31"/>
          <p:cNvSpPr/>
          <p:nvPr/>
        </p:nvSpPr>
        <p:spPr>
          <a:xfrm>
            <a:off x="3581280" y="5072040"/>
            <a:ext cx="1644840" cy="150804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2"/>
          <p:cNvSpPr/>
          <p:nvPr/>
        </p:nvSpPr>
        <p:spPr>
          <a:xfrm>
            <a:off x="5562720" y="5072040"/>
            <a:ext cx="1644480" cy="15080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47"/>
          <p:cNvSpPr/>
          <p:nvPr/>
        </p:nvSpPr>
        <p:spPr>
          <a:xfrm>
            <a:off x="826920" y="333360"/>
            <a:ext cx="71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Question of R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 Box 48">
            <a:hlinkClick r:id="rId1" action="ppaction://hlinksldjump"/>
          </p:cNvPr>
          <p:cNvSpPr/>
          <p:nvPr/>
        </p:nvSpPr>
        <p:spPr>
          <a:xfrm>
            <a:off x="2124000" y="1484280"/>
            <a:ext cx="71928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2" action="ppaction://hlinksldjump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49">
            <a:hlinkClick r:id="rId3" action="ppaction://hlinksldjump"/>
          </p:cNvPr>
          <p:cNvSpPr/>
          <p:nvPr/>
        </p:nvSpPr>
        <p:spPr>
          <a:xfrm>
            <a:off x="5981760" y="1514520"/>
            <a:ext cx="72072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4" action="ppaction://hlinksldjump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50"/>
          <p:cNvSpPr/>
          <p:nvPr/>
        </p:nvSpPr>
        <p:spPr>
          <a:xfrm>
            <a:off x="4010040" y="15145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5" action="ppaction://hlinksldjump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51"/>
          <p:cNvSpPr/>
          <p:nvPr/>
        </p:nvSpPr>
        <p:spPr>
          <a:xfrm>
            <a:off x="2035080" y="332748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6" action="ppaction://hlinksldjump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52"/>
          <p:cNvSpPr/>
          <p:nvPr/>
        </p:nvSpPr>
        <p:spPr>
          <a:xfrm>
            <a:off x="4010040" y="33577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7" action="ppaction://hlinksldjump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910120" y="335772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8" action="ppaction://hlinksldjump"/>
              </a:rPr>
              <a:t>6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54"/>
          <p:cNvSpPr/>
          <p:nvPr/>
        </p:nvSpPr>
        <p:spPr>
          <a:xfrm>
            <a:off x="2035080" y="519912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9" action="ppaction://hlinksldjump"/>
              </a:rPr>
              <a:t>7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55"/>
          <p:cNvSpPr/>
          <p:nvPr/>
        </p:nvSpPr>
        <p:spPr>
          <a:xfrm>
            <a:off x="4010040" y="51577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10" action="ppaction://hlinksldjump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5838840" y="5157720"/>
            <a:ext cx="8636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11" action="ppaction://hlinksldjump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04920" y="30492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Img0978 resized"/>
          <p:cNvPicPr/>
          <p:nvPr/>
        </p:nvPicPr>
        <p:blipFill>
          <a:blip r:embed="rId2"/>
          <a:stretch/>
        </p:blipFill>
        <p:spPr>
          <a:xfrm>
            <a:off x="1908000" y="260280"/>
            <a:ext cx="5761080" cy="4321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98" name="Line 5"/>
          <p:cNvSpPr/>
          <p:nvPr/>
        </p:nvSpPr>
        <p:spPr>
          <a:xfrm flipV="1">
            <a:off x="2700360" y="3068280"/>
            <a:ext cx="0" cy="180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Line 6"/>
          <p:cNvSpPr/>
          <p:nvPr/>
        </p:nvSpPr>
        <p:spPr>
          <a:xfrm flipV="1">
            <a:off x="7020000" y="2852280"/>
            <a:ext cx="0" cy="2089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16000" y="494172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n the inside of the meander water is flowing more slowly. This results in deposition and the formation of the slip-off slope or river beach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5219640" y="501336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n the outside of the meander water is flower more quickly. This results in erosion and the formation of a cut bank or river cliff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2" name="Picture 9" descr=""/>
          <p:cNvPicPr/>
          <p:nvPr/>
        </p:nvPicPr>
        <p:blipFill>
          <a:blip r:embed="rId3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304920" y="30492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11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455760" cy="455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4" descr="Img0511 resiz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58920" y="260280"/>
            <a:ext cx="6840360" cy="5129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88" name="Text Box 35"/>
          <p:cNvSpPr/>
          <p:nvPr/>
        </p:nvSpPr>
        <p:spPr>
          <a:xfrm>
            <a:off x="1258920" y="5805360"/>
            <a:ext cx="68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were the little circular depressions in the bedrock of this river formed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Line 36"/>
          <p:cNvSpPr/>
          <p:nvPr/>
        </p:nvSpPr>
        <p:spPr>
          <a:xfrm>
            <a:off x="5867280" y="1341360"/>
            <a:ext cx="0" cy="57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Line 37"/>
          <p:cNvSpPr/>
          <p:nvPr/>
        </p:nvSpPr>
        <p:spPr>
          <a:xfrm>
            <a:off x="4356000" y="263700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Line 38"/>
          <p:cNvSpPr/>
          <p:nvPr/>
        </p:nvSpPr>
        <p:spPr>
          <a:xfrm>
            <a:off x="5219640" y="105264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Line 39"/>
          <p:cNvSpPr/>
          <p:nvPr/>
        </p:nvSpPr>
        <p:spPr>
          <a:xfrm>
            <a:off x="3276720" y="220500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4643280" y="83664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Line 41"/>
          <p:cNvSpPr/>
          <p:nvPr/>
        </p:nvSpPr>
        <p:spPr>
          <a:xfrm>
            <a:off x="3708360" y="191628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1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8" descr="Tay south of perth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58920" y="260280"/>
            <a:ext cx="7524720" cy="3235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98" name="Text Box 40"/>
          <p:cNvSpPr/>
          <p:nvPr/>
        </p:nvSpPr>
        <p:spPr>
          <a:xfrm>
            <a:off x="684360" y="3933720"/>
            <a:ext cx="381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is Scotland’s longest river. Which river is it? Into which body of water does it flow?  Scotland’s fourth largest city is located on its estuary?  Which city is it?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42" descr="Dundee and River Tay estuary resized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716360" y="3860640"/>
            <a:ext cx="4114800" cy="2657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10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4" descr="Lower cours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42920" y="549360"/>
            <a:ext cx="7704360" cy="4062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03" name="Text Box 36"/>
          <p:cNvSpPr/>
          <p:nvPr/>
        </p:nvSpPr>
        <p:spPr>
          <a:xfrm>
            <a:off x="179280" y="4941720"/>
            <a:ext cx="1800360" cy="1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produced from the OS Get-a-Map service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reproduced with kind permission of the OS and OS of Northern Ireland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7"/>
          <p:cNvSpPr/>
          <p:nvPr/>
        </p:nvSpPr>
        <p:spPr>
          <a:xfrm>
            <a:off x="2700360" y="501336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scribe the physical features of the river and its vall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6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1"/>
          <p:cNvSpPr/>
          <p:nvPr/>
        </p:nvSpPr>
        <p:spPr>
          <a:xfrm>
            <a:off x="5651640" y="141300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23" descr="Img0652 resiz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476280"/>
            <a:ext cx="6624720" cy="49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9" name="Text Box 24"/>
          <p:cNvSpPr/>
          <p:nvPr/>
        </p:nvSpPr>
        <p:spPr>
          <a:xfrm>
            <a:off x="1476360" y="566100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1547640" y="566100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Oval 26"/>
          <p:cNvSpPr/>
          <p:nvPr/>
        </p:nvSpPr>
        <p:spPr>
          <a:xfrm>
            <a:off x="3924360" y="2133720"/>
            <a:ext cx="2089080" cy="2087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1547640" y="57340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826920" y="5734080"/>
            <a:ext cx="83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river feature occupies the centre of this photo? How does the river change downstream of the featu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8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4"/>
          <p:cNvSpPr/>
          <p:nvPr/>
        </p:nvSpPr>
        <p:spPr>
          <a:xfrm>
            <a:off x="6443640" y="170028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features identify  this stretch of river as part of its upper cours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25" descr="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549360"/>
            <a:ext cx="4370400" cy="5832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8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4" descr="Thornton Force Panorama copy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42920" y="692280"/>
            <a:ext cx="7634520" cy="3695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1" name="Text Box 25"/>
          <p:cNvSpPr/>
          <p:nvPr/>
        </p:nvSpPr>
        <p:spPr>
          <a:xfrm>
            <a:off x="2050920" y="472428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y has a waterfall developed he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380880" y="22860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0" descr="Img0918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333360"/>
            <a:ext cx="6409080" cy="4805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5" name="Text Box 31"/>
          <p:cNvSpPr/>
          <p:nvPr/>
        </p:nvSpPr>
        <p:spPr>
          <a:xfrm>
            <a:off x="1547640" y="530064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would you know that this valley was not carved by the river which flows in it today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9:45:47Z</dcterms:created>
  <dc:creator>VV</dc:creator>
  <dc:description/>
  <dc:language>en-US</dc:language>
  <cp:lastModifiedBy>RomaK</cp:lastModifiedBy>
  <dcterms:modified xsi:type="dcterms:W3CDTF">2015-09-04T09:44:49Z</dcterms:modified>
  <cp:revision>47</cp:revision>
  <dc:subject/>
  <dc:title>PowerPoint Presentation</dc:title>
</cp:coreProperties>
</file>